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type.wav" ContentType="audio/x-wav"/>
  <Override PartName="/ppt/media/laser.wav" ContentType="audio/x-wav"/>
  <Override PartName="/ppt/media/whoosh.wav" ContentType="audio/x-wav"/>
  <Override PartName="/ppt/media/image1.wmf" ContentType="image/x-wmf"/>
  <Override PartName="/ppt/media/image2.wmf" ContentType="image/x-wmf"/>
  <Override PartName="/ppt/media/chimes.wav" ContentType="audio/x-wav"/>
  <Override PartName="/ppt/media/image7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30F-04C5-4175-94D5-045C3B2C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60A-67FB-4C69-BE6A-96C34686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C26-76FE-4F7C-917E-29379B73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AF7-0CC1-4F39-9117-4E4EF804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1F7-A340-4C8A-AB12-931F0E35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46CE-51E5-4A2B-820E-F0D6C9C7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B2D-D634-4A45-83D8-D714DFAF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16D0-9BA1-41BF-9DAD-8E42DBAE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3419-02EA-4409-9E74-1C2AC479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4EEB-600F-43FF-A116-36905C2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9B80-E3EE-40B8-BB34-B0696CF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245-70AC-4EAC-BD26-49E938AC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57C9-AF4B-40C4-A9AC-01F20FE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1545-0B42-437C-AC9E-2B859F0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5ED3-8552-4E4E-AC8D-33ADCCF4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ED9C-9614-457C-852F-93AE4ABF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05CE-09BF-411A-89BF-89241354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F210-E71B-40AC-A0F1-59930F83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EE6-EF54-4189-A343-4BBAB3AF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51A-4697-42C0-84B3-5901B29C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958-FE6B-4D53-BB4F-4F17566C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E4CD-D8B1-4E5A-9203-593C5F16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AEF4-BE4D-4678-A380-C43A66C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9AB-C03B-4246-92E1-AC52CEF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fld id="{165D18B4-5409-497A-8EA6-6F05504C3E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Comic Sans MS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Comic Sans MS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            </a:t>
            </a:r>
            <a:fld id="{D5C21C15-FAC7-4267-BDC8-BEBBFCB6797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7DA0FA19-7356-42D0-BA40-BD83CDCA7938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204280" y="4216320"/>
            <a:ext cx="4758840" cy="581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1" i="1" lang="en-US" sz="3200" spc="-1" strike="noStrike">
                <a:solidFill>
                  <a:srgbClr val="f8f8f8"/>
                </a:solidFill>
                <a:latin typeface="Comic Sans MS"/>
              </a:rPr>
              <a:t>to be” or not “to be”</a:t>
            </a:r>
            <a:r>
              <a:rPr b="1" lang="en-US" sz="3200" spc="-1" strike="noStrike">
                <a:solidFill>
                  <a:srgbClr val="f8f8f8"/>
                </a:solidFill>
                <a:latin typeface="Comic Sans MS"/>
              </a:rPr>
              <a:t>…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F1EFBFC8-4845-4C86-8405-3C1C7BAE4AF1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Un Evento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 las och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a fiest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s conciert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l parqu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4" name="Picture 5" descr="c:\Program Files\Microsoft Office\Clipart\standard\stddir2\en00508_.wmf"/>
          <p:cNvPicPr/>
          <p:nvPr/>
        </p:nvPicPr>
        <p:blipFill>
          <a:blip r:embed="rId1"/>
          <a:stretch/>
        </p:blipFill>
        <p:spPr>
          <a:xfrm>
            <a:off x="3276720" y="4343400"/>
            <a:ext cx="2514600" cy="248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183300E3-BB08-4DCB-9379-702E5210EFEA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 preposición “de”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Possessi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arí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5800" y="33526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8f8f8"/>
                </a:solidFill>
                <a:uFillTx/>
                <a:latin typeface="Comic Sans MS"/>
              </a:rPr>
              <a:t>Material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upit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metal y plástic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9" name="Picture 6" descr="c:\Program Files\Microsoft Office\Clipart\standard\stddir2\bs01001_.wmf"/>
          <p:cNvPicPr/>
          <p:nvPr/>
        </p:nvPicPr>
        <p:blipFill>
          <a:blip r:embed="rId1"/>
          <a:stretch/>
        </p:blipFill>
        <p:spPr>
          <a:xfrm>
            <a:off x="3503520" y="4952880"/>
            <a:ext cx="2135160" cy="1735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B56BB116-563D-47C5-A565-ADD4194BAFED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Location of a person or thing            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 localizació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onditions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s condicion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Impressions or opinions (</a:t>
            </a:r>
            <a:r>
              <a:rPr b="0" i="1" lang="en-US" sz="3200" spc="-1" strike="noStrike">
                <a:solidFill>
                  <a:srgbClr val="ffcc00"/>
                </a:solidFill>
                <a:latin typeface="Comic Sans MS"/>
              </a:rPr>
              <a:t>las opinion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B0E63B15-9573-45B2-98A4-42B30977D088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1251360" y="822240"/>
            <a:ext cx="66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omic Sans MS"/>
              </a:rPr>
              <a:t>Algunos Adjetivos con ESTAR: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388880" y="258768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ans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252760" y="2206800"/>
            <a:ext cx="13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bier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655000" y="464508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err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459240" y="304488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nervios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289560" y="464508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enferm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33160" y="41878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ibr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6293160" y="5940360"/>
            <a:ext cx="167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onten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5901120" y="342576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limpi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1977480" y="6016680"/>
            <a:ext cx="16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ocupa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4461480" y="525456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uci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026520" y="1596960"/>
            <a:ext cx="31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(unas condiciones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900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2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140C7FF7-1E30-4B71-B419-F3D7869E615D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Localiz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drid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lib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n mi cas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Dónd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i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vosotros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49" name="Picture 5" descr="c:\Program Files\Microsoft Office\Clipart\smbusbas\an00106_.wmf"/>
          <p:cNvPicPr/>
          <p:nvPr/>
        </p:nvPicPr>
        <p:blipFill>
          <a:blip r:embed="rId1"/>
          <a:stretch/>
        </p:blipFill>
        <p:spPr>
          <a:xfrm>
            <a:off x="3333600" y="4730760"/>
            <a:ext cx="2475000" cy="212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1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6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B68FB71-F467-4C76-B01A-0DB27C2B457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Condic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teléfon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ibre ahor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rcos y Ele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nervios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ateo siempr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content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3" name="Picture 5" descr="c:\Program Files\Microsoft Office\Clipart\standard\stddir4\pe03704_.wmf"/>
          <p:cNvPicPr/>
          <p:nvPr/>
        </p:nvPicPr>
        <p:blipFill>
          <a:blip r:embed="rId1"/>
          <a:stretch/>
        </p:blipFill>
        <p:spPr>
          <a:xfrm>
            <a:off x="3505320" y="4495680"/>
            <a:ext cx="2163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8F08321-3C1B-405D-AE21-706F9270AE70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s Opinione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u herman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bonita hoy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pescad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buen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3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Sanchez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oven cuando juega al fútb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57" name="Picture 5" descr="c:\Program Files\Microsoft Office\Clipart\corpbas\j0079256.wmf"/>
          <p:cNvPicPr/>
          <p:nvPr/>
        </p:nvPicPr>
        <p:blipFill>
          <a:blip r:embed="rId1"/>
          <a:stretch/>
        </p:blipFill>
        <p:spPr>
          <a:xfrm>
            <a:off x="914400" y="4495680"/>
            <a:ext cx="2016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795790A-8AF6-40D0-ADFA-968ACA554D3D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os uso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e estos verbo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pic>
        <p:nvPicPr>
          <p:cNvPr id="260" name="Picture 5" descr="c:\Program Files\Microsoft Office\Clipart\standard\stddir1\bd05558_.wmf"/>
          <p:cNvPicPr/>
          <p:nvPr/>
        </p:nvPicPr>
        <p:blipFill>
          <a:blip r:embed="rId1"/>
          <a:stretch/>
        </p:blipFill>
        <p:spPr>
          <a:xfrm>
            <a:off x="2847960" y="2286000"/>
            <a:ext cx="3446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9588BA61-AB4C-41E1-AF2B-EBAE0852BE62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1752120"/>
            <a:ext cx="5639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el orige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identific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aracterística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hora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un evento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32640" indent="-33264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possession, material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4D426747-7803-42A6-BA56-EEB2F7619026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28720" y="26665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 localización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condic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 algn="ctr">
              <a:lnSpc>
                <a:spcPct val="130000"/>
              </a:lnSpc>
              <a:spcBef>
                <a:spcPts val="9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Comic Sans MS"/>
              </a:rPr>
              <a:t>las opiniones</a:t>
            </a:r>
            <a:endParaRPr b="0" lang="en-US" sz="36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0C39AAE3-AF97-473A-9D90-EDC4B3A90390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Ser y Estar</a:t>
            </a: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 en español…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7960" y="297144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oth verbs mean </a:t>
            </a:r>
            <a:r>
              <a:rPr b="0" i="1" lang="en-US" sz="2800" spc="-1" strike="noStrike">
                <a:solidFill>
                  <a:srgbClr val="f8f8f8"/>
                </a:solidFill>
                <a:latin typeface="Comic Sans MS"/>
              </a:rPr>
              <a:t>“to be”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Used in </a:t>
            </a:r>
            <a:r>
              <a:rPr b="0" i="1" lang="en-US" sz="2800" spc="-1" strike="noStrike" u="sng">
                <a:solidFill>
                  <a:srgbClr val="f8f8f8"/>
                </a:solidFill>
                <a:uFillTx/>
                <a:latin typeface="Comic Sans MS"/>
              </a:rPr>
              <a:t>very different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 cas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rregular conjugation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182" name="Picture 5" descr="c:\Program Files\Microsoft Office\Clipart\smbusbas\bs01923_.wmf"/>
          <p:cNvPicPr/>
          <p:nvPr/>
        </p:nvPicPr>
        <p:blipFill>
          <a:blip r:embed="rId1"/>
          <a:stretch/>
        </p:blipFill>
        <p:spPr>
          <a:xfrm>
            <a:off x="1184400" y="2971800"/>
            <a:ext cx="281124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32A36B69-D24C-469F-942D-7D56BB1248BF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4267080" y="5791320"/>
            <a:ext cx="99072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2514600" y="51055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4038480" y="4419720"/>
            <a:ext cx="60984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1" name="Rectangle 13"/>
          <p:cNvSpPr/>
          <p:nvPr/>
        </p:nvSpPr>
        <p:spPr>
          <a:xfrm>
            <a:off x="2666880" y="3733920"/>
            <a:ext cx="8384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1981080" y="3048120"/>
            <a:ext cx="8384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2362320" y="23623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Practicamo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77320" y="236232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amig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a República Dominican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094120" y="3078000"/>
            <a:ext cx="51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las diez de la noche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132560" y="3763800"/>
            <a:ext cx="70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os libro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a profesora nuev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978840" y="4449600"/>
            <a:ext cx="73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partido de béisbol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 las cuatro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066680" y="5135400"/>
            <a:ext cx="71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Quiéne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los estudiantes nuevos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951200" y="5821200"/>
            <a:ext cx="53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Hoy y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y   /   estoy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nervioso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2753050-073E-430F-9862-549B4CD41BB2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5334120" y="5791320"/>
            <a:ext cx="99036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572000" y="51055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86200" y="44197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5181480" y="3733920"/>
            <a:ext cx="91440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648320" y="3048120"/>
            <a:ext cx="12952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2666880" y="2362320"/>
            <a:ext cx="68580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Practicamos má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1571400" y="236232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Dónde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el concierto de rock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081440" y="307800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Carmen y y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mos   /   estamo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cansad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647360" y="3763800"/>
            <a:ext cx="60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os profesores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n   /   están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purados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1103760" y="4449600"/>
            <a:ext cx="70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libro de histori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interesante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1156320" y="513540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bisabuela n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contenta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638000" y="5821200"/>
            <a:ext cx="602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i madre siempre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ocupad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4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CFEA6B1B-EF54-4A08-A4A8-E59F1A40469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2743200" y="5791320"/>
            <a:ext cx="76212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733920" y="5105520"/>
            <a:ext cx="6094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419720" y="4419720"/>
            <a:ext cx="76176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895480" y="3733920"/>
            <a:ext cx="60984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114800" y="3048120"/>
            <a:ext cx="838080" cy="60948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657600" y="2362320"/>
            <a:ext cx="609480" cy="533160"/>
          </a:xfrm>
          <a:prstGeom prst="rect">
            <a:avLst/>
          </a:prstGeom>
          <a:solidFill>
            <a:srgbClr val="f8f8f8"/>
          </a:solidFill>
          <a:ln cap="sq" w="12600">
            <a:solidFill>
              <a:srgbClr val="3500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Comic Sans MS"/>
              </a:rPr>
              <a:t>¡Y más!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2108520" y="236232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¿De quién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el camión?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1721520" y="3078000"/>
            <a:ext cx="58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l teatro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cerca de la tiend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1632240" y="376380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añan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omingo, ¿verdad?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1822320" y="4449600"/>
            <a:ext cx="56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Margarit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muy triste hoy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1668240" y="5135400"/>
            <a:ext cx="60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La casa nueva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s   /   está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de los García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1228680" y="5821200"/>
            <a:ext cx="684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Juan y tú  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ois   /   está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  amigos buenos, ¿no?.</a:t>
            </a:r>
            <a:endParaRPr b="0" lang="en-US" sz="2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100080" y="1025640"/>
            <a:ext cx="900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How you feel and where you are 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Comic Sans MS"/>
              </a:rPr>
              <a:t>always take the verb ESTAR.”</a:t>
            </a:r>
            <a:endParaRPr b="0" lang="en-US" sz="44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9DA40F55-8E28-4F62-B4EA-79EEE6B54EAB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¿Cuáles son las formas?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r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So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oy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amo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is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Comic Sans MS"/>
              </a:rPr>
              <a:t>Están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121120" y="236232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767920" y="2362320"/>
            <a:ext cx="141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Comic Sans MS"/>
              </a:rPr>
              <a:t>Estar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36F7E0CE-D3A7-4CBC-BC47-1CBDE7AAA0CC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5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os usos del verbo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Comic Sans MS"/>
              </a:rPr>
              <a:t>Ser</a:t>
            </a:r>
            <a:r>
              <a:rPr b="0" i="1" lang="en-US" sz="44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Origin of a person or thing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el orige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Identification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identificación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haracteristics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s características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elling time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hor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 and date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la fecha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Time and place of an event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un evento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  <a:p>
            <a:pPr marL="322200" indent="-32220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With the preposition “de” (</a:t>
            </a:r>
            <a:r>
              <a:rPr b="0" i="1" lang="en-US" sz="2800" spc="-1" strike="noStrike">
                <a:solidFill>
                  <a:srgbClr val="ffcc00"/>
                </a:solidFill>
                <a:latin typeface="Comic Sans MS"/>
              </a:rPr>
              <a:t>possession, material</a:t>
            </a: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A4CA0E19-FF97-49E3-86A0-3E61FBEC58A3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521360" y="838080"/>
            <a:ext cx="613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00"/>
                </a:solidFill>
                <a:latin typeface="Comic Sans MS"/>
              </a:rPr>
              <a:t>Algunos Adjetivos con SER:</a:t>
            </a:r>
            <a:endParaRPr b="0" lang="en-US" sz="40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379880" y="258768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nuev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254200" y="220680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600640" y="4645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popular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524400" y="3044880"/>
            <a:ext cx="182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fantást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6323760" y="4645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divertid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65480" y="4187880"/>
            <a:ext cx="12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buen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281280" y="594036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cariños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5945760" y="342576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014920" y="601668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simpátic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482000" y="525456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Comic Sans MS"/>
              </a:rPr>
              <a:t>alto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2818440" y="1596960"/>
            <a:ext cx="352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(unas características)</a:t>
            </a:r>
            <a:endParaRPr b="0" lang="en-US" sz="2800" spc="-1" strike="noStrike">
              <a:solidFill>
                <a:srgbClr val="f8f8f8"/>
              </a:solidFill>
              <a:latin typeface="Comic Sans MS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DCBC5D5B-62DD-432C-9ABD-BE3784D75482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El Orige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Juan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Españ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libr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Guatemal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Mis prim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de Buenos Air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08" name="Picture 6" descr="c:\Program Files\Common Files\Microsoft Shared\Clipart\cagcat50\BD05680_.WMF"/>
          <p:cNvPicPr/>
          <p:nvPr/>
        </p:nvPicPr>
        <p:blipFill>
          <a:blip r:embed="rId1"/>
          <a:stretch/>
        </p:blipFill>
        <p:spPr>
          <a:xfrm>
            <a:off x="3273480" y="4802040"/>
            <a:ext cx="2595600" cy="2055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E18DB8A7-9CAD-444A-BCCA-07510A2BB551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Identificación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Tú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r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 hermana de Ped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Nosotros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mo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mericano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l Sr. Ayal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profesor de español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2" name="Picture 5" descr="c:\Program Files\Common Files\Microsoft Shared\Clipart\cagcat50\PE01460_.wmf"/>
          <p:cNvPicPr/>
          <p:nvPr/>
        </p:nvPicPr>
        <p:blipFill>
          <a:blip r:embed="rId1"/>
          <a:stretch/>
        </p:blipFill>
        <p:spPr>
          <a:xfrm>
            <a:off x="3652920" y="4572000"/>
            <a:ext cx="183816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1D85E912-AC32-461F-9F6D-D6BFC1DBF747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cc00"/>
                </a:solidFill>
                <a:uFillTx/>
                <a:latin typeface="Comic Sans MS"/>
              </a:rPr>
              <a:t>Las Características</a:t>
            </a:r>
            <a:r>
              <a:rPr b="0" i="1" lang="en-US" sz="66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6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Y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y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muy alto y delgad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Carmen y Pablo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jóvenes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Esta clase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aburrida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16" name="Picture 5" descr="c:\Program Files\Microsoft Office\Clipart\standard\stddir1\bd06630_.wmf"/>
          <p:cNvPicPr/>
          <p:nvPr/>
        </p:nvPicPr>
        <p:blipFill>
          <a:blip r:embed="rId1"/>
          <a:stretch/>
        </p:blipFill>
        <p:spPr>
          <a:xfrm>
            <a:off x="3276720" y="4602240"/>
            <a:ext cx="2590560" cy="20667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f8f8f8"/>
                </a:solidFill>
                <a:latin typeface="Comic Sans MS"/>
              </a:rPr>
              <a:t>            </a:t>
            </a:r>
            <a:fld id="{9DA19F08-A1DF-4BA7-B2AA-E0C44179AC06}" type="slidenum">
              <a:rPr b="0" lang="en-US" sz="1400" spc="-1" strike="noStrike">
                <a:solidFill>
                  <a:srgbClr val="f8f8f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Comic Sans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cc00"/>
                </a:solidFill>
                <a:uFillTx/>
                <a:latin typeface="Comic Sans MS"/>
              </a:rPr>
              <a:t>La Hora y la fecha</a:t>
            </a:r>
            <a:r>
              <a:rPr b="0" i="1" lang="en-US" sz="7200" spc="-1" strike="noStrike">
                <a:solidFill>
                  <a:srgbClr val="ffcc00"/>
                </a:solidFill>
                <a:latin typeface="Comic Sans MS"/>
              </a:rPr>
              <a:t>:</a:t>
            </a:r>
            <a:endParaRPr b="0" lang="en-US" sz="72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¿Qué hora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?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Son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las tres de la tarde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Hoy </a:t>
            </a:r>
            <a:r>
              <a:rPr b="0" i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f8f8f8"/>
                </a:solidFill>
                <a:latin typeface="Comic Sans MS"/>
              </a:rPr>
              <a:t> el 17 de febrero.</a:t>
            </a:r>
            <a:endParaRPr b="0" lang="en-US" sz="3200" spc="-1" strike="noStrike">
              <a:solidFill>
                <a:srgbClr val="f8f8f8"/>
              </a:solidFill>
              <a:latin typeface="Comic Sans MS"/>
            </a:endParaRPr>
          </a:p>
        </p:txBody>
      </p:sp>
      <p:pic>
        <p:nvPicPr>
          <p:cNvPr id="220" name="Picture 5" descr="c:\Program Files\Microsoft Office\Clipart\standard\stddir2\bs00965_.wmf"/>
          <p:cNvPicPr/>
          <p:nvPr/>
        </p:nvPicPr>
        <p:blipFill>
          <a:blip r:embed="rId1"/>
          <a:stretch/>
        </p:blipFill>
        <p:spPr>
          <a:xfrm>
            <a:off x="3252960" y="4513320"/>
            <a:ext cx="2636640" cy="2344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  <p:sndAc>
      <p:stSnd>
        <p:snd r:embed="rId2" name="whoosh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olseng</dc:creator>
  <dc:description/>
  <dc:language>en-US</dc:language>
  <cp:lastModifiedBy>sruckman</cp:lastModifiedBy>
  <dcterms:modified xsi:type="dcterms:W3CDTF">2008-10-02T14:11:10Z</dcterms:modified>
  <cp:revision>81</cp:revision>
  <dc:subject/>
  <dc:title>Ser &amp; Estar</dc:title>
</cp:coreProperties>
</file>